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34D-F683-4AFA-8060-41A8896A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F81-0656-4E83-9541-B4E0EF9C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584-28D9-4375-9E0E-F96FDF3D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2AC-6A49-47D8-ACBB-AA3B8430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898-3845-4EB8-8CC0-F0CCE8EF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978-6032-49C2-AA4F-4D151520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4AC8-7EB0-4F73-A537-2FEA2704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F76-4348-46AE-94BE-B0BAABE8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69A-0910-4B9A-B4A0-7BA8F4E3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72C-D879-4EE1-A786-395B352E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E4D-A3C5-4F82-B527-06F47283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8A5-4077-40EB-9FEB-C2CC3D1F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B79E-4D43-4859-9A45-A88F5AA06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Jason Br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http://clio.missouristate.edu/chuchiak/New%20Webpage%20Images/10056152aAthensAgora.jpg"/>
          <p:cNvPicPr/>
          <p:nvPr/>
        </p:nvPicPr>
        <p:blipFill>
          <a:blip r:embed="rId1"/>
          <a:stretch/>
        </p:blipFill>
        <p:spPr>
          <a:xfrm>
            <a:off x="0" y="2028960"/>
            <a:ext cx="9144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6002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http://static.newworldencyclopedia.org/thumb/c/cd/Escola_de_Atenas.jpg/350px-Escola_de_Atenas.jpg"/>
          <p:cNvPicPr/>
          <p:nvPr/>
        </p:nvPicPr>
        <p:blipFill>
          <a:blip r:embed="rId1"/>
          <a:stretch/>
        </p:blipFill>
        <p:spPr>
          <a:xfrm>
            <a:off x="0" y="2854440"/>
            <a:ext cx="914400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952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http://www.mlahanas.de/Greece/Regions/images/ChalcidiceM.gif"/>
          <p:cNvPicPr/>
          <p:nvPr/>
        </p:nvPicPr>
        <p:blipFill>
          <a:blip r:embed="rId1"/>
          <a:stretch/>
        </p:blipFill>
        <p:spPr>
          <a:xfrm>
            <a:off x="0" y="2457360"/>
            <a:ext cx="9144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765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http://www.historyforkids.org/learn/greeks/history/pictures/alexmosaic.jpg"/>
          <p:cNvPicPr/>
          <p:nvPr/>
        </p:nvPicPr>
        <p:blipFill>
          <a:blip r:embed="rId1"/>
          <a:stretch/>
        </p:blipFill>
        <p:spPr>
          <a:xfrm>
            <a:off x="0" y="2247840"/>
            <a:ext cx="9144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http://westerlund10.wikis.birmingham.k12.mi.us/file/view/oligarchy.gif/210870380/oligarchy.gif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kypros.org/Occupied_Cyprus/cyprus1974/images/villages_towns/Kyrenia_harbor_750_bg.jpg"/>
          <p:cNvPicPr/>
          <p:nvPr/>
        </p:nvPicPr>
        <p:blipFill>
          <a:blip r:embed="rId1"/>
          <a:stretch/>
        </p:blipFill>
        <p:spPr>
          <a:xfrm>
            <a:off x="0" y="2448000"/>
            <a:ext cx="91440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2.gstatic.com/images?q=tbn:ANd9GcQfdt8519XZWjTZ-WsaoOLlNua88XY95JQJwxGKTw5MonhblMw9aA"/>
          <p:cNvPicPr/>
          <p:nvPr/>
        </p:nvPicPr>
        <p:blipFill>
          <a:blip r:embed="rId1"/>
          <a:stretch/>
        </p:blipFill>
        <p:spPr>
          <a:xfrm>
            <a:off x="0" y="1895400"/>
            <a:ext cx="91440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63360" y="-692280"/>
            <a:ext cx="189576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63360" y="-692280"/>
            <a:ext cx="189576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http://upload.wikimedia.org/wikipedia/commons/thumb/5/56/AncientAgoraofAthensColour.jpg/300px-AncientAgoraofAthensColour.jpg"/>
          <p:cNvPicPr/>
          <p:nvPr/>
        </p:nvPicPr>
        <p:blipFill>
          <a:blip r:embed="rId1"/>
          <a:stretch/>
        </p:blipFill>
        <p:spPr>
          <a:xfrm>
            <a:off x="0" y="1771560"/>
            <a:ext cx="91440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w 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t1.gstatic.com/images?q=tbn:ANd9GcTP8qmkxS1ITrzSmkROXXmGbwf6lN_gi_Bj0YNNo7vsK-HobLwh"/>
          <p:cNvPicPr/>
          <p:nvPr/>
        </p:nvPicPr>
        <p:blipFill>
          <a:blip r:embed="rId1"/>
          <a:stretch/>
        </p:blipFill>
        <p:spPr>
          <a:xfrm>
            <a:off x="0" y="2548080"/>
            <a:ext cx="91440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7652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3360" y="-10288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t0.gstatic.com/images?q=tbn:ANd9GcSrTavWWzQwqBiauxwF0oXdcHutoEkcT_XM-_YB4UCyQsmpXF99r06rIEqcc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people who lived apart from Greece btu kept economic ties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image.shutterstock.com/display_pic_with_logo/339454/339454,1283459365,1/stock-photo-ancient-greek-colony-chersonesos-ruins-in-crimea-ukraine-on-the-banck-of-black-sea-60245548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greece.mrdonn.org/athens1.gif"/>
          <p:cNvPicPr/>
          <p:nvPr/>
        </p:nvPicPr>
        <p:blipFill>
          <a:blip r:embed="rId1"/>
          <a:stretch/>
        </p:blipFill>
        <p:spPr>
          <a:xfrm>
            <a:off x="0" y="2622600"/>
            <a:ext cx="914400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goldcoin.org/wp-content/uploads/goldsmiths-hall.jpg"/>
          <p:cNvPicPr/>
          <p:nvPr/>
        </p:nvPicPr>
        <p:blipFill>
          <a:blip r:embed="rId1"/>
          <a:stretch/>
        </p:blipFill>
        <p:spPr>
          <a:xfrm>
            <a:off x="0" y="2371680"/>
            <a:ext cx="9144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http://1.bp.blogspot.com/--6Q_mdPOLgA/TZORpHKZNNI/AAAAAAAAAdo/zwFT0iGw02c/s1600/Pericles.jpg"/>
          <p:cNvPicPr/>
          <p:nvPr/>
        </p:nvPicPr>
        <p:blipFill>
          <a:blip r:embed="rId1"/>
          <a:stretch/>
        </p:blipFill>
        <p:spPr>
          <a:xfrm>
            <a:off x="0" y="2371680"/>
            <a:ext cx="9144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8T14:06:08Z</dcterms:modified>
  <cp:revision>96</cp:revision>
  <dc:subject/>
  <dc:title>Ancient Greece</dc:title>
</cp:coreProperties>
</file>